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0FA-8520-4422-BE87-CC3EDBC5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F98-7765-47D9-B4CE-27283CD5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2D5-6BA5-4CFB-9D1A-ACD5D2A6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FCF-A843-47A8-A735-E78217FA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0D5-5FAD-4D18-8766-302614D1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FBD-0AFC-44BF-80F7-5DFBA43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9BA-7B3D-4AA8-A21A-637D97C8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269-1349-486B-9BF6-758BDA0F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771-9831-4882-A87A-DEB0C9AC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A766-E662-4B19-943D-C1970A6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FD3-05A0-4834-9C43-2B1D4B2B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2A1-1B72-4BBE-A28C-5E6FB42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28C-9956-4C30-9459-CFC7F3539F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93800" y="224316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9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黄山奇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92360" y="4525920"/>
            <a:ext cx="63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张茂平工作室      刘彬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找出你觉得最有趣的地方，读出奇石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桌合作，表演读，一人读，一人配合作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57200" y="476280"/>
            <a:ext cx="3529080" cy="1008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种形式读出奇石之“奇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三   多种方式   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19308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"/>
          <p:cNvSpPr/>
          <p:nvPr/>
        </p:nvSpPr>
        <p:spPr>
          <a:xfrm>
            <a:off x="1008000" y="3933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说“仙桃石”吧，它（  ）从天上飞下来的（   ），落在山顶的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7000" y="0"/>
            <a:ext cx="1836720" cy="177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看图，把下面句子说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1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19272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4"/>
          <p:cNvSpPr/>
          <p:nvPr/>
        </p:nvSpPr>
        <p:spPr>
          <a:xfrm>
            <a:off x="971640" y="443700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关键词：仙桃石  飞下来  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71280" y="147600"/>
            <a:ext cx="1800360" cy="1368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看图，抓关键词把文中句子说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是小导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温馨提示：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熟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向“游客”介绍你觉得最有趣的一块奇石。用文中的话，语调自然，可以配上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971640" y="620640"/>
            <a:ext cx="2232000" cy="1152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游戏环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四  活学活用   关注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23760"/>
            <a:ext cx="8229600" cy="59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大桃子 一（   ）猴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仙人   一（   ）金光闪闪的雄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狮子   一（   ）陡峭的山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朵朵（     ）    一片片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条条（     ）    一根根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468360" y="54000"/>
            <a:ext cx="3166920" cy="108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量词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3" descr=""/>
          <p:cNvPicPr/>
          <p:nvPr/>
        </p:nvPicPr>
        <p:blipFill>
          <a:blip r:embed="rId1"/>
          <a:stretch/>
        </p:blipFill>
        <p:spPr>
          <a:xfrm>
            <a:off x="0" y="34920"/>
            <a:ext cx="3475080" cy="2344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572000" y="0"/>
            <a:ext cx="3313080" cy="2379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84240" y="2708280"/>
            <a:ext cx="3390840" cy="265896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4572000" y="2708280"/>
            <a:ext cx="3313080" cy="252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任选一幅说话，用上“真像”或“好像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五   认真观察  学写汉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内容占位符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281320" cy="20307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1871640" cy="2030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6178680" y="404640"/>
            <a:ext cx="206532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板块一     认读字词    理解词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刘彬彬  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5868720" cy="38736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"/>
          <p:cNvSpPr/>
          <p:nvPr/>
        </p:nvSpPr>
        <p:spPr>
          <a:xfrm>
            <a:off x="6822720" y="1600200"/>
            <a:ext cx="1643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巨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形近字辨识（连连看）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ū               j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971640" y="3029040"/>
            <a:ext cx="21603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4572000" y="3029040"/>
            <a:ext cx="2193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"/>
          <p:cNvSpPr/>
          <p:nvPr/>
        </p:nvSpPr>
        <p:spPr>
          <a:xfrm>
            <a:off x="4356000" y="4987800"/>
            <a:ext cx="27370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风景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620640"/>
            <a:ext cx="84340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门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耳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 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找出课文中“闻名”的近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著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接箭头连接符 4"/>
          <p:cNvCxnSpPr/>
          <p:nvPr/>
        </p:nvCxnSpPr>
        <p:spPr>
          <a:xfrm>
            <a:off x="2484000" y="1052280"/>
            <a:ext cx="7930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圆角矩形 11"/>
          <p:cNvSpPr/>
          <p:nvPr/>
        </p:nvSpPr>
        <p:spPr>
          <a:xfrm>
            <a:off x="3635280" y="217440"/>
            <a:ext cx="115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2"/>
          <p:cNvSpPr/>
          <p:nvPr/>
        </p:nvSpPr>
        <p:spPr>
          <a:xfrm>
            <a:off x="3276720" y="168588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3"/>
          <p:cNvSpPr/>
          <p:nvPr/>
        </p:nvSpPr>
        <p:spPr>
          <a:xfrm>
            <a:off x="3384720" y="3941640"/>
            <a:ext cx="2016000" cy="70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zhù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考考自己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新闻  百闻不如一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名字  名不虚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二   循序渐进    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闻名中外的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黄山风景区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我国安徽省南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出趣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里景色秀丽神奇，尤其是那些怪石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就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“猴子观海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仙人指路”就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到你觉得有趣的地方，声音可以大点，调子可以拉长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179280" y="3860640"/>
            <a:ext cx="4824360" cy="935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揣摩如何读出“趣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43:0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